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8"/>
          <p:cNvGrpSpPr/>
          <p:nvPr/>
        </p:nvGrpSpPr>
        <p:grpSpPr>
          <a:xfrm>
            <a:off x="277920" y="1773360"/>
            <a:ext cx="8601120" cy="4155840"/>
            <a:chOff x="277920" y="1773360"/>
            <a:chExt cx="8601120" cy="4155840"/>
          </a:xfrm>
        </p:grpSpPr>
        <p:sp>
          <p:nvSpPr>
            <p:cNvPr id="40" name="Rectangle 3"/>
            <p:cNvSpPr/>
            <p:nvPr/>
          </p:nvSpPr>
          <p:spPr>
            <a:xfrm>
              <a:off x="380880" y="1773360"/>
              <a:ext cx="84981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3000" spc="-1" strike="noStrike">
                  <a:solidFill>
                    <a:srgbClr val="000000"/>
                  </a:solidFill>
                  <a:latin typeface="Arial"/>
                </a:rPr>
                <a:t>Хронична опструктивна болест плућ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Line 4"/>
            <p:cNvSpPr/>
            <p:nvPr/>
          </p:nvSpPr>
          <p:spPr>
            <a:xfrm>
              <a:off x="277920" y="2493360"/>
              <a:ext cx="8571240" cy="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2"/>
            <p:cNvSpPr/>
            <p:nvPr/>
          </p:nvSpPr>
          <p:spPr>
            <a:xfrm>
              <a:off x="446040" y="5187960"/>
              <a:ext cx="81280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Rectangle 1"/>
          <p:cNvSpPr/>
          <p:nvPr/>
        </p:nvSpPr>
        <p:spPr>
          <a:xfrm>
            <a:off x="1000080" y="3360600"/>
            <a:ext cx="73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ИСАНЕ АКАДЕМСКЕ  СТУДИЈЕ МЕДИЦИН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НА МЕДИЦИНА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Недеља настав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ставна јединица 2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с. Др Марина Марко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рапија ХОБ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1704960" y="2058840"/>
            <a:ext cx="57340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35000" y="2259000"/>
            <a:ext cx="2111400" cy="995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246400" y="1913040"/>
            <a:ext cx="1976400" cy="13572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222800" y="1581120"/>
            <a:ext cx="2165400" cy="16812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388200" y="1197000"/>
            <a:ext cx="2124000" cy="20718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255600" y="2387520"/>
            <a:ext cx="185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FEV1/FVC &lt; 7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FEV1  &gt; 80% p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2286000" y="2008080"/>
            <a:ext cx="1922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FEV1/FVC &lt; 7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50% &lt; FEV1 &lt; 8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p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4410000" y="174132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FEV1/FVC &lt; 7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30% &lt; FEV1 &lt; 50% p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6508800" y="1208160"/>
            <a:ext cx="1922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FEV1/FVC &lt; 7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FEV1 &lt; 30% p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ili FEV1 &lt; 50% p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222268"/>
                </a:solidFill>
                <a:latin typeface="Calibri"/>
              </a:rPr>
              <a:t>+ </a:t>
            </a: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hronična respiratorna insuficij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135000" y="3468600"/>
            <a:ext cx="8377200" cy="741600"/>
          </a:xfrm>
          <a:prstGeom prst="rect">
            <a:avLst/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22268"/>
                </a:solidFill>
                <a:latin typeface="Arial"/>
              </a:rPr>
              <a:t>Избегавање фактора ризика; вакцина против гр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0000"/>
                </a:solidFill>
                <a:latin typeface="Arial"/>
              </a:rPr>
              <a:t>Додај</a:t>
            </a:r>
            <a:r>
              <a:rPr b="0" lang="sr-RS" sz="1800" spc="-1" strike="noStrike">
                <a:solidFill>
                  <a:srgbClr val="222268"/>
                </a:solidFill>
                <a:latin typeface="Arial"/>
              </a:rPr>
              <a:t> краткоделујући бронходилататор по потре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16"/>
          <p:cNvCxnSpPr/>
          <p:nvPr/>
        </p:nvCxnSpPr>
        <p:spPr>
          <a:xfrm>
            <a:off x="6388200" y="3600000"/>
            <a:ext cx="1869120" cy="1080"/>
          </a:xfrm>
          <a:prstGeom prst="straightConnector1">
            <a:avLst/>
          </a:prstGeom>
          <a:ln w="28440">
            <a:solidFill>
              <a:srgbClr val="222268"/>
            </a:solidFill>
            <a:miter/>
            <a:tailEnd len="med" type="triangle" w="med"/>
          </a:ln>
        </p:spPr>
      </p:cxnSp>
      <p:cxnSp>
        <p:nvCxnSpPr>
          <p:cNvPr id="76" name="Straight Arrow Connector 21"/>
          <p:cNvCxnSpPr/>
          <p:nvPr/>
        </p:nvCxnSpPr>
        <p:spPr>
          <a:xfrm>
            <a:off x="6388200" y="3912840"/>
            <a:ext cx="1869120" cy="1080"/>
          </a:xfrm>
          <a:prstGeom prst="straightConnector1">
            <a:avLst/>
          </a:prstGeom>
          <a:ln w="28440">
            <a:solidFill>
              <a:srgbClr val="222268"/>
            </a:solidFill>
            <a:miter/>
            <a:tailEnd len="med" type="triangle" w="med"/>
          </a:ln>
        </p:spPr>
      </p:cxnSp>
      <p:sp>
        <p:nvSpPr>
          <p:cNvPr id="77" name="Rectangle 26"/>
          <p:cNvSpPr/>
          <p:nvPr/>
        </p:nvSpPr>
        <p:spPr>
          <a:xfrm>
            <a:off x="2246400" y="4341960"/>
            <a:ext cx="6265800" cy="674640"/>
          </a:xfrm>
          <a:prstGeom prst="rect">
            <a:avLst/>
          </a:prstGeom>
          <a:solidFill>
            <a:srgbClr val="9c9cd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0000"/>
                </a:solidFill>
                <a:latin typeface="Calibri"/>
              </a:rPr>
              <a:t>Додај </a:t>
            </a:r>
            <a:r>
              <a:rPr b="0" lang="sr-RS" sz="1800" spc="-1" strike="noStrike">
                <a:solidFill>
                  <a:srgbClr val="222268"/>
                </a:solidFill>
                <a:latin typeface="Calibri"/>
              </a:rPr>
              <a:t>један или више дугоделујућих бронходилат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0000"/>
                </a:solidFill>
                <a:latin typeface="Calibri"/>
              </a:rPr>
              <a:t>Додај</a:t>
            </a:r>
            <a:r>
              <a:rPr b="0" lang="sr-RS" sz="1800" spc="-1" strike="noStrike">
                <a:solidFill>
                  <a:srgbClr val="222268"/>
                </a:solidFill>
                <a:latin typeface="Calibri"/>
              </a:rPr>
              <a:t> рехабили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4410000" y="5146560"/>
            <a:ext cx="4102200" cy="5810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0000"/>
                </a:solidFill>
                <a:latin typeface="Calibri"/>
              </a:rPr>
              <a:t>Додај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ИКС или/и</a:t>
            </a: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 ROFLUMILAST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Код егзацербациј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9"/>
          <p:cNvSpPr/>
          <p:nvPr/>
        </p:nvSpPr>
        <p:spPr>
          <a:xfrm>
            <a:off x="6723000" y="5832360"/>
            <a:ext cx="1789200" cy="890640"/>
          </a:xfrm>
          <a:prstGeom prst="rect">
            <a:avLst/>
          </a:prstGeom>
          <a:solidFill>
            <a:srgbClr val="16164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4222800" y="1049400"/>
            <a:ext cx="2043000" cy="23256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1"/>
          <p:cNvSpPr/>
          <p:nvPr/>
        </p:nvSpPr>
        <p:spPr>
          <a:xfrm>
            <a:off x="3805200" y="5016600"/>
            <a:ext cx="5110200" cy="815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2112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Терапија за код кућ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пратропијум-бромид п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годелујући бронходилат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К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1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каз случаја бр 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76120" y="3867120"/>
            <a:ext cx="8591760" cy="38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1076400" y="4756320"/>
            <a:ext cx="69912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ОБП, ХРИ, Д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96344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цијент, 69 година, више пута хоспитално лечена на Клиници за пулмолог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ивши пуш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раније се лечи од ХОБП тешког степена са развијеном хроничном респираторном инсуфицијенцијом и хроничним плућним срц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277640"/>
            <a:ext cx="8229600" cy="55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ушење, општа слабот и малаксал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ведене тегобе има уназад 7 д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бог трајног поремећаја гасне размене болеснику је додељен концентратор кисеоника ѕа коришћење у кућним усл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изикални преглед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вестан,орјентисан, диспноичан, еукардичан, средње ОМГ, знаци централне цијанозе, без знакова за хеморагијски синдром на кожи и без периферне лимфаденопат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ускултаторно, на плућима </a:t>
            </a:r>
            <a:r>
              <a:rPr b="1" lang="sr-RS" sz="2000" spc="-1" strike="noStrike">
                <a:solidFill>
                  <a:srgbClr val="c00000"/>
                </a:solidFill>
                <a:latin typeface="Calibri"/>
              </a:rPr>
              <a:t>дифузно ослабљен дисајни шум, продужен експиријум, чујан високотонско- нискотонски </a:t>
            </a:r>
            <a:r>
              <a:rPr b="1" i="1" lang="sv-SE" sz="2000" spc="-1" strike="noStrike">
                <a:solidFill>
                  <a:srgbClr val="c00000"/>
                </a:solidFill>
                <a:latin typeface="Calibri"/>
              </a:rPr>
              <a:t>whee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рчана радња ритмична, тонови тиши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итални знаци: </a:t>
            </a:r>
            <a:r>
              <a:rPr b="1" lang="sr-RS" sz="2000" spc="-1" strike="noStrike">
                <a:solidFill>
                  <a:srgbClr val="c00000"/>
                </a:solidFill>
                <a:latin typeface="Calibri"/>
              </a:rPr>
              <a:t>ТА 140/90</a:t>
            </a:r>
            <a:r>
              <a:rPr b="1" lang="sv-SE" sz="2000" spc="-1" strike="noStrike">
                <a:solidFill>
                  <a:srgbClr val="c00000"/>
                </a:solidFill>
                <a:latin typeface="Calibri"/>
              </a:rPr>
              <a:t>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Ф 85/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 36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sv-SE" sz="2000" spc="-1" strike="noStrike">
                <a:solidFill>
                  <a:srgbClr val="c00000"/>
                </a:solidFill>
                <a:latin typeface="Calibri"/>
              </a:rPr>
              <a:t>SaO2 </a:t>
            </a:r>
            <a:r>
              <a:rPr b="1" lang="sr-RS" sz="2000" spc="-1" strike="noStrike">
                <a:solidFill>
                  <a:srgbClr val="c00000"/>
                </a:solidFill>
                <a:latin typeface="Calibri"/>
              </a:rPr>
              <a:t>60</a:t>
            </a:r>
            <a:r>
              <a:rPr b="1" lang="sv-SE" sz="2000" spc="-1" strike="noStrike">
                <a:solidFill>
                  <a:srgbClr val="c00000"/>
                </a:solidFill>
                <a:latin typeface="Calibri"/>
              </a:rPr>
              <a:t>%</a:t>
            </a:r>
            <a:r>
              <a:rPr b="1" lang="sr-R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 собном ваздух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224000"/>
            <a:ext cx="8229600" cy="56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Гасне анализе на пријему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pH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7.4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sv-SE" sz="3200" spc="-1" strike="noStrike">
                <a:solidFill>
                  <a:srgbClr val="c00000"/>
                </a:solidFill>
                <a:latin typeface="Calibri"/>
              </a:rPr>
              <a:t>pO2</a:t>
            </a:r>
            <a:r>
              <a:rPr b="1" lang="sr-RS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sv-SE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sr-RS" sz="3200" spc="-1" strike="noStrike">
                <a:solidFill>
                  <a:srgbClr val="c00000"/>
                </a:solidFill>
                <a:latin typeface="Calibri"/>
              </a:rPr>
              <a:t>3.9</a:t>
            </a:r>
            <a:r>
              <a:rPr b="1" lang="sv-SE" sz="3200" spc="-1" strike="noStrike">
                <a:solidFill>
                  <a:srgbClr val="c00000"/>
                </a:solidFill>
                <a:latin typeface="Calibri"/>
              </a:rPr>
              <a:t>kPa</a:t>
            </a:r>
            <a:r>
              <a:rPr b="1" lang="sr-RS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( &gt;9.3к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sv-SE" sz="3200" spc="-1" strike="noStrike">
                <a:solidFill>
                  <a:srgbClr val="c00000"/>
                </a:solidFill>
                <a:latin typeface="Calibri"/>
              </a:rPr>
              <a:t>pCO2 </a:t>
            </a:r>
            <a:r>
              <a:rPr b="1" lang="sr-RS" sz="3200" spc="-1" strike="noStrike">
                <a:solidFill>
                  <a:srgbClr val="c00000"/>
                </a:solidFill>
                <a:latin typeface="Calibri"/>
              </a:rPr>
              <a:t> 11</a:t>
            </a:r>
            <a:r>
              <a:rPr b="1" lang="sv-SE" sz="3200" spc="-1" strike="noStrike">
                <a:solidFill>
                  <a:srgbClr val="c00000"/>
                </a:solidFill>
                <a:latin typeface="Calibri"/>
              </a:rPr>
              <a:t>.</a:t>
            </a:r>
            <a:r>
              <a:rPr b="1" lang="sr-RS" sz="3200" spc="-1" strike="noStrike">
                <a:solidFill>
                  <a:srgbClr val="c00000"/>
                </a:solidFill>
                <a:latin typeface="Calibri"/>
              </a:rPr>
              <a:t>9</a:t>
            </a:r>
            <a:r>
              <a:rPr b="1" lang="sv-SE" sz="3200" spc="-1" strike="noStrike">
                <a:solidFill>
                  <a:srgbClr val="c00000"/>
                </a:solidFill>
                <a:latin typeface="Calibri"/>
              </a:rPr>
              <a:t>kPa</a:t>
            </a:r>
            <a:r>
              <a:rPr b="1" lang="sr-R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( 4.5-6к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sv-SE" sz="3200" spc="-1" strike="noStrike">
                <a:solidFill>
                  <a:srgbClr val="c00000"/>
                </a:solidFill>
                <a:latin typeface="Calibri"/>
              </a:rPr>
              <a:t>HCO3 </a:t>
            </a:r>
            <a:r>
              <a:rPr b="1" lang="sr-RS" sz="3200" spc="-1" strike="noStrike">
                <a:solidFill>
                  <a:srgbClr val="c00000"/>
                </a:solidFill>
                <a:latin typeface="Calibri"/>
              </a:rPr>
              <a:t> 56</a:t>
            </a:r>
            <a:r>
              <a:rPr b="1" lang="sv-SE" sz="3200" spc="-1" strike="noStrike">
                <a:solidFill>
                  <a:srgbClr val="c00000"/>
                </a:solidFill>
                <a:latin typeface="Calibri"/>
              </a:rPr>
              <a:t>.</a:t>
            </a:r>
            <a:r>
              <a:rPr b="1" lang="sr-RS" sz="3200" spc="-1" strike="noStrike">
                <a:solidFill>
                  <a:srgbClr val="c00000"/>
                </a:solidFill>
                <a:latin typeface="Calibri"/>
              </a:rPr>
              <a:t>4   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(22.0-28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sv-SE" sz="3200" spc="-1" strike="noStrike">
                <a:solidFill>
                  <a:srgbClr val="c00000"/>
                </a:solidFill>
                <a:latin typeface="Calibri"/>
              </a:rPr>
              <a:t>SaO2 </a:t>
            </a:r>
            <a:r>
              <a:rPr b="1" lang="sr-RS" sz="3200" spc="-1" strike="noStrike">
                <a:solidFill>
                  <a:srgbClr val="c00000"/>
                </a:solidFill>
                <a:latin typeface="Calibri"/>
              </a:rPr>
              <a:t>  65</a:t>
            </a:r>
            <a:r>
              <a:rPr b="1" lang="sv-SE" sz="3200" spc="-1" strike="noStrike">
                <a:solidFill>
                  <a:srgbClr val="c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Лабораторијске анализ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: Ле 5.9;Ер 5.00, Хгб 126, Тр 249, Гликемија 6.6, К 4.5, На 143, </a:t>
            </a:r>
            <a:r>
              <a:rPr b="1" lang="sr-RS" sz="3200" spc="-1" strike="noStrike">
                <a:solidFill>
                  <a:srgbClr val="c00000"/>
                </a:solidFill>
                <a:latin typeface="Calibri"/>
              </a:rPr>
              <a:t>Уреа 13.9, Креатинин 156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РП 1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умачење резултата гасних анали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2287440"/>
          <a:ext cx="8229600" cy="2103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лне вре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ксем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капн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капн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2 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O2 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-6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2  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2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9.3k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2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O2 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4.5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O2 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k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57200" y="4800600"/>
          <a:ext cx="8229600" cy="1841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цијална респирацијска инсуфицијенција - Тип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обална респирацијска инсуфицијенција - Тип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ксем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O2 у границама норма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кс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капн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2" name="Oval 7"/>
          <p:cNvSpPr/>
          <p:nvPr/>
        </p:nvSpPr>
        <p:spPr>
          <a:xfrm>
            <a:off x="3967200" y="4665600"/>
            <a:ext cx="4503600" cy="1976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976040"/>
            <a:ext cx="82296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Ртг плућ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већана срчана сенка на рачун десне ко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глашен </a:t>
            </a:r>
            <a:r>
              <a:rPr b="0" i="1" lang="sv-SE" sz="2800" spc="-1" strike="noStrike">
                <a:solidFill>
                  <a:srgbClr val="000000"/>
                </a:solidFill>
                <a:latin typeface="Calibri"/>
              </a:rPr>
              <a:t>truncus pulmon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илуси волумино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ез активних патолошких промена у плућном паренхи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4066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оком хоспитализаци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еопструктивна терап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ардиодиуретска 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7316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каз случаја бр 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76120" y="3867120"/>
            <a:ext cx="8591760" cy="38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1076400" y="4756320"/>
            <a:ext cx="69912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ОБП, без Х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88640" y="2287080"/>
            <a:ext cx="430668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НД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ерена или тешка диспнеја са употребом помоћне  дисајне мускулатуре и парадоксалним абдоминалним покре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ерена или тешка ацидоза (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7,30 – 7,35) и хиперкапнија (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2 &gt;6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спираторна фреквенца 25/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9360">
            <a:solidFill>
              <a:srgbClr val="222268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НТРАИНД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еспираторни ар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рдиоваскуларни поремећај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( хипотензија, аритмије, инфаркт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окар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ремећај с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изик од аспир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Хирушке интервенеције (лице, једњак, желуда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реде главе, назофаринксни деформит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320" y="2287080"/>
            <a:ext cx="3249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асне анализе на прије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       7.4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2    3.9k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CO2  11.9k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CO3  56.4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O2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526000" y="2287080"/>
            <a:ext cx="3160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асне анализе при отпу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H 7.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2 8.5k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CO2 7.9k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HCO3 38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aO2 9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5"/>
          <p:cNvCxnSpPr/>
          <p:nvPr/>
        </p:nvCxnSpPr>
        <p:spPr>
          <a:xfrm>
            <a:off x="2917440" y="4517640"/>
            <a:ext cx="215172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02" name="Straight Arrow Connector 8"/>
          <p:cNvCxnSpPr/>
          <p:nvPr/>
        </p:nvCxnSpPr>
        <p:spPr>
          <a:xfrm>
            <a:off x="2676240" y="4065120"/>
            <a:ext cx="285012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03" name="Straight Arrow Connector 11"/>
          <p:cNvCxnSpPr/>
          <p:nvPr/>
        </p:nvCxnSpPr>
        <p:spPr>
          <a:xfrm>
            <a:off x="3070080" y="5503680"/>
            <a:ext cx="215172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135000" y="2259000"/>
            <a:ext cx="2111400" cy="995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246400" y="1913040"/>
            <a:ext cx="1976400" cy="13572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222800" y="1581120"/>
            <a:ext cx="2165400" cy="16812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388200" y="1197000"/>
            <a:ext cx="2124000" cy="20718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255600" y="2387520"/>
            <a:ext cx="185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FEV1/FVC &lt; 7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FEV1  &gt; 80% p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286000" y="2008080"/>
            <a:ext cx="1922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FEV1/FVC &lt; 7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50% &lt; FEV1 &lt; 8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p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4410000" y="174132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FEV1/FVC &lt; 7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30% &lt; FEV1 &lt; 50% p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6508800" y="1208160"/>
            <a:ext cx="1922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FEV1/FVC &lt; 7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FEV1 &lt; 30% p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ili FEV1 &lt; 50% p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222268"/>
                </a:solidFill>
                <a:latin typeface="Calibri"/>
              </a:rPr>
              <a:t>+ </a:t>
            </a:r>
            <a:r>
              <a:rPr b="0" lang="en-US" sz="1600" spc="-1" strike="noStrike">
                <a:solidFill>
                  <a:srgbClr val="222268"/>
                </a:solidFill>
                <a:latin typeface="Calibri"/>
              </a:rPr>
              <a:t>hronična respiratorna insuficij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135000" y="3468600"/>
            <a:ext cx="8377200" cy="741600"/>
          </a:xfrm>
          <a:prstGeom prst="rect">
            <a:avLst/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22268"/>
                </a:solidFill>
                <a:latin typeface="Arial"/>
              </a:rPr>
              <a:t>Избегавање фактора ризика; вакцина против гр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0000"/>
                </a:solidFill>
                <a:latin typeface="Arial"/>
              </a:rPr>
              <a:t>Додај</a:t>
            </a:r>
            <a:r>
              <a:rPr b="0" lang="sr-RS" sz="1800" spc="-1" strike="noStrike">
                <a:solidFill>
                  <a:srgbClr val="222268"/>
                </a:solidFill>
                <a:latin typeface="Arial"/>
              </a:rPr>
              <a:t> краткоделујући бронходилататор по потре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16"/>
          <p:cNvCxnSpPr/>
          <p:nvPr/>
        </p:nvCxnSpPr>
        <p:spPr>
          <a:xfrm>
            <a:off x="6388200" y="3600000"/>
            <a:ext cx="1869120" cy="1080"/>
          </a:xfrm>
          <a:prstGeom prst="straightConnector1">
            <a:avLst/>
          </a:prstGeom>
          <a:ln w="28440">
            <a:solidFill>
              <a:srgbClr val="222268"/>
            </a:solidFill>
            <a:miter/>
            <a:tailEnd len="med" type="triangle" w="med"/>
          </a:ln>
        </p:spPr>
      </p:cxnSp>
      <p:cxnSp>
        <p:nvCxnSpPr>
          <p:cNvPr id="114" name="Straight Arrow Connector 21"/>
          <p:cNvCxnSpPr/>
          <p:nvPr/>
        </p:nvCxnSpPr>
        <p:spPr>
          <a:xfrm>
            <a:off x="6388200" y="3912840"/>
            <a:ext cx="1869120" cy="1080"/>
          </a:xfrm>
          <a:prstGeom prst="straightConnector1">
            <a:avLst/>
          </a:prstGeom>
          <a:ln w="28440">
            <a:solidFill>
              <a:srgbClr val="222268"/>
            </a:solidFill>
            <a:miter/>
            <a:tailEnd len="med" type="triangle" w="med"/>
          </a:ln>
        </p:spPr>
      </p:cxnSp>
      <p:sp>
        <p:nvSpPr>
          <p:cNvPr id="115" name="Rectangle 26"/>
          <p:cNvSpPr/>
          <p:nvPr/>
        </p:nvSpPr>
        <p:spPr>
          <a:xfrm>
            <a:off x="2246400" y="4341960"/>
            <a:ext cx="6265800" cy="674640"/>
          </a:xfrm>
          <a:prstGeom prst="rect">
            <a:avLst/>
          </a:prstGeom>
          <a:solidFill>
            <a:srgbClr val="9c9cd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0000"/>
                </a:solidFill>
                <a:latin typeface="Calibri"/>
              </a:rPr>
              <a:t>Додај </a:t>
            </a:r>
            <a:r>
              <a:rPr b="0" lang="sr-RS" sz="1800" spc="-1" strike="noStrike">
                <a:solidFill>
                  <a:srgbClr val="222268"/>
                </a:solidFill>
                <a:latin typeface="Calibri"/>
              </a:rPr>
              <a:t>један или више дугоделујућих бронходилат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0000"/>
                </a:solidFill>
                <a:latin typeface="Calibri"/>
              </a:rPr>
              <a:t>Додај</a:t>
            </a:r>
            <a:r>
              <a:rPr b="0" lang="sr-RS" sz="1800" spc="-1" strike="noStrike">
                <a:solidFill>
                  <a:srgbClr val="222268"/>
                </a:solidFill>
                <a:latin typeface="Calibri"/>
              </a:rPr>
              <a:t> рехабили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8"/>
          <p:cNvSpPr/>
          <p:nvPr/>
        </p:nvSpPr>
        <p:spPr>
          <a:xfrm>
            <a:off x="4410000" y="5146560"/>
            <a:ext cx="4102200" cy="5810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c00000"/>
                </a:solidFill>
                <a:latin typeface="Calibri"/>
              </a:rPr>
              <a:t>Додај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ИКС или/и</a:t>
            </a:r>
            <a:r>
              <a:rPr b="0" lang="sr-Latn-RS" sz="1800" spc="-1" strike="noStrike">
                <a:solidFill>
                  <a:srgbClr val="ffffff"/>
                </a:solidFill>
                <a:latin typeface="Calibri"/>
              </a:rPr>
              <a:t> ROFLUMILAST</a:t>
            </a: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</a:rPr>
              <a:t>Код егзацербациј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723000" y="5832360"/>
            <a:ext cx="1789200" cy="890640"/>
          </a:xfrm>
          <a:prstGeom prst="rect">
            <a:avLst/>
          </a:prstGeom>
          <a:solidFill>
            <a:srgbClr val="16164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0"/>
          <p:cNvSpPr/>
          <p:nvPr/>
        </p:nvSpPr>
        <p:spPr>
          <a:xfrm>
            <a:off x="6265800" y="982800"/>
            <a:ext cx="2165400" cy="25002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1"/>
          <p:cNvSpPr/>
          <p:nvPr/>
        </p:nvSpPr>
        <p:spPr>
          <a:xfrm>
            <a:off x="5889600" y="5819760"/>
            <a:ext cx="3160800" cy="8175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ДОТ- критерију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О2 &lt; 7.3кРа (55 ммХг) или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2 &lt;88% са или без хиперкапн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2 између 7.3 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 и 8 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 или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О2 89%  уз  плућну хипертензију, периферне едеме због срчане инсуфицијенције и еритроцитозу (хематокрит &gt;5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0" y="3187800"/>
            <a:ext cx="8404200" cy="23256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рапија за код кућ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ОТ у кућним условима (током дана проток О2 1л/мин, током ноћи 1.5л/м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БА и Л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К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нтрола након 3 месе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636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ирометријско испитивање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VC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3.04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l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75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EV1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.26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 (3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EV1/FVC     (4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асне анализе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уз О2 1.5л/мин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pH 7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33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pO2 8.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7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kPa</a:t>
            </a:r>
            <a:r>
              <a:rPr b="0" lang="sv-SE" sz="2400" spc="-1" strike="noStrike">
                <a:solidFill>
                  <a:srgbClr val="c00000"/>
                </a:solidFill>
                <a:latin typeface="Calibri"/>
              </a:rPr>
              <a:t>, pCO2 </a:t>
            </a:r>
            <a:r>
              <a:rPr b="0" lang="sr-RS" sz="2400" spc="-1" strike="noStrike">
                <a:solidFill>
                  <a:srgbClr val="c00000"/>
                </a:solidFill>
                <a:latin typeface="Calibri"/>
              </a:rPr>
              <a:t>8</a:t>
            </a:r>
            <a:r>
              <a:rPr b="0" lang="sv-SE" sz="2400" spc="-1" strike="noStrike">
                <a:solidFill>
                  <a:srgbClr val="c00000"/>
                </a:solidFill>
                <a:latin typeface="Calibri"/>
              </a:rPr>
              <a:t>.</a:t>
            </a:r>
            <a:r>
              <a:rPr b="0" lang="sr-RS" sz="2400" spc="-1" strike="noStrike">
                <a:solidFill>
                  <a:srgbClr val="c00000"/>
                </a:solidFill>
                <a:latin typeface="Calibri"/>
              </a:rPr>
              <a:t>5</a:t>
            </a:r>
            <a:r>
              <a:rPr b="0" lang="sv-SE" sz="2400" spc="-1" strike="noStrike">
                <a:solidFill>
                  <a:srgbClr val="c00000"/>
                </a:solidFill>
                <a:latin typeface="Calibri"/>
              </a:rPr>
              <a:t>kPa, SaO2 9</a:t>
            </a:r>
            <a:r>
              <a:rPr b="0" lang="sr-RS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sv-SE" sz="2400" spc="-1" strike="noStrike">
                <a:solidFill>
                  <a:srgbClr val="c00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асне анализе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без О2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pH 7.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29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, pO2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7.9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kPa, pCO2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7.5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kPa, SaO2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87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асне анализе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О2 1л/мин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pH 7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pO2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9.1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kPa, pCO2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8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.3kPa, SaO2 9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рапија за код кућ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ОТ у кућним условима - проток О2 1л/мин, током 16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БА и Л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К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1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каз случаја бр 3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76120" y="3867120"/>
            <a:ext cx="8591760" cy="381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853920" y="4737240"/>
            <a:ext cx="74361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ОБП, ХРИ, ДОТ,  фенотип- чест егзацерб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ЕНОТИПИЗАЦИЈА –будућност ХОБ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3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што феноти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говор на терапију код ХОБП болесника није 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иничке манифестације, патолошко/радиолошки налаз и прогноза су различ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БП је  синд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могућава класификацију пацијената у различите прогностичке и терапијске под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могућава боље разумевање настанка и развој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енот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7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шани ХОБП-астма феноти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гзацербатор фенот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мфизем-хиперинфлација феноти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622600"/>
            <a:ext cx="822960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цијенткиња, 71 година, више пута хоспитално лечена на Клиници за пулмолог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пуш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раније се лечи од ХОБП, има фиброторакс 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лергична на Пеницил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цијенткиња, 64 године, више пута хоспитално лечена на Клиници за пулмолог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назад 4 године се лечи од ХОБП са последично развијеном глобалном Х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ристи ДОТ (проток 0.75л/мин 15-18 сати днев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протеклих годину дана имала је три тешка погоршања која су захтевала хоспитализ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рчани болесник (ХТА, АИМ, кардиомиопат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уш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007640"/>
            <a:ext cx="83772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ушење, продуктиван кашаљ, искашљавање беличастог садржај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ведене тегобе има уназад 10 д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изикални преглед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весна,орјентисана, лако диспноична, еукардична, средње ОМГ, блеђе пребојене боје коже и видљивих слузница, без знакова за хеморагијски синдром на кожи и без периферне лимфаденопат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ускултаторно, на плућима </a:t>
            </a:r>
            <a:r>
              <a:rPr b="1" lang="sr-RS" sz="2000" spc="-1" strike="noStrike">
                <a:solidFill>
                  <a:srgbClr val="c00000"/>
                </a:solidFill>
                <a:latin typeface="Calibri"/>
              </a:rPr>
              <a:t>дифузно ослабљен дисајни шум, продужен експиријум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без пропратних звучних фено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рчана радња ритмична, тонови тиши 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итални знаци: </a:t>
            </a:r>
            <a:r>
              <a:rPr b="1" lang="sr-RS" sz="2000" spc="-1" strike="noStrike">
                <a:solidFill>
                  <a:srgbClr val="c00000"/>
                </a:solidFill>
                <a:latin typeface="Calibri"/>
              </a:rPr>
              <a:t>ТА 130/90</a:t>
            </a:r>
            <a:r>
              <a:rPr b="1" lang="sv-SE" sz="2000" spc="-1" strike="noStrike">
                <a:solidFill>
                  <a:srgbClr val="c00000"/>
                </a:solidFill>
                <a:latin typeface="Calibri"/>
              </a:rPr>
              <a:t>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c00000"/>
                </a:solidFill>
                <a:latin typeface="Calibri"/>
              </a:rPr>
              <a:t>                                   </a:t>
            </a:r>
            <a:r>
              <a:rPr b="1" lang="sr-RS" sz="20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lang="sv-SE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c00000"/>
                </a:solidFill>
                <a:latin typeface="Calibri"/>
              </a:rPr>
              <a:t>СФ 100/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 36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SaO2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5%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155240"/>
            <a:ext cx="8524800" cy="53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асне анализе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без О2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pH 7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38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pO2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6.8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kPa, pCO2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7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.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9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kPa, 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HCO3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.5, 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SaO2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85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асне анализе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под О2 1л/мин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pH 7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37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pO2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7.2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kPa, pCO2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7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.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7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kPa, 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HCO3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29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.5, 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SaO2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87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Лабораторијске анализ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RS" sz="2000" spc="-1" strike="noStrike">
                <a:solidFill>
                  <a:srgbClr val="c00000"/>
                </a:solidFill>
                <a:latin typeface="Calibri"/>
              </a:rPr>
              <a:t>Ле 11.6;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р 4.96, Хгб 128, Тр 278, Гликемија 6.4, </a:t>
            </a:r>
            <a:r>
              <a:rPr b="1" lang="sr-RS" sz="2000" spc="-1" strike="noStrike">
                <a:solidFill>
                  <a:srgbClr val="c00000"/>
                </a:solidFill>
                <a:latin typeface="Calibri"/>
              </a:rPr>
              <a:t>К 6.0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 143,Уреа 5.6, Креатинин 71, ЦРП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ирометријско испитивање: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VC     1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54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sr-Latn-RS" sz="2400" spc="-1" strike="noStrike" u="sng">
                <a:solidFill>
                  <a:srgbClr val="c00000"/>
                </a:solidFill>
                <a:uFillTx/>
                <a:latin typeface="Calibri"/>
              </a:rPr>
              <a:t>FEV1   0.</a:t>
            </a:r>
            <a:r>
              <a:rPr b="0" lang="sr-RS" sz="2400" spc="-1" strike="noStrike" u="sng">
                <a:solidFill>
                  <a:srgbClr val="c00000"/>
                </a:solidFill>
                <a:uFillTx/>
                <a:latin typeface="Calibri"/>
              </a:rPr>
              <a:t>5</a:t>
            </a:r>
            <a:r>
              <a:rPr b="0" lang="sr-Latn-RS" sz="2400" spc="-1" strike="noStrike" u="sng">
                <a:solidFill>
                  <a:srgbClr val="c00000"/>
                </a:solidFill>
                <a:uFillTx/>
                <a:latin typeface="Calibri"/>
              </a:rPr>
              <a:t>l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29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EV1/FVC  (4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66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Поремећај вентилације мешовитог типа, претежно опструктивног типа, тешког степена, иреверзиби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1"/>
          <p:cNvCxnSpPr/>
          <p:nvPr/>
        </p:nvCxnSpPr>
        <p:spPr>
          <a:xfrm>
            <a:off x="4249440" y="4989600"/>
            <a:ext cx="1080" cy="5367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36600" y="1144440"/>
            <a:ext cx="40384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Ртг плућ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већана срчана с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луси волумино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Лако смањена транспарентност десно базал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аглашена бронховаскуларна шара обостр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Content Placeholder 4" descr=""/>
          <p:cNvPicPr/>
          <p:nvPr/>
        </p:nvPicPr>
        <p:blipFill>
          <a:blip r:embed="rId1"/>
          <a:stretch/>
        </p:blipFill>
        <p:spPr>
          <a:xfrm>
            <a:off x="4648320" y="2141640"/>
            <a:ext cx="40384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2339640"/>
            <a:ext cx="82296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етог дана хоспитализације код пацијенткиње је регистровано фебрилно стање – Т 38.4Ц са гушобољом и кијавиц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ађен вирусолошки тест –потврђена је </a:t>
            </a:r>
            <a:r>
              <a:rPr b="1" lang="sv-SE" sz="2800" spc="-1" strike="noStrike">
                <a:solidFill>
                  <a:srgbClr val="c00000"/>
                </a:solidFill>
                <a:latin typeface="Calibri"/>
              </a:rPr>
              <a:t>Influenza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лабораторијским анализама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ЦРП 18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рапиј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17240"/>
            <a:ext cx="822960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оком хоспитализаци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еопструктивна терап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нтиниурана контролисана оксигенотерап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нтивиро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Б из групе респираторних хинол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рапија за код кућ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ОТ у кућним условима - проток О2 0.5л/мин, током 16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БА и Л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5200" y="3750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Хвала на пажњ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007640"/>
            <a:ext cx="83772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ушење, продуктиван кашаљ, искашљавање беличастог садржај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ведене тегобе има уназад 5 д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мбулантно лечена деопструктивном терапиј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изикални преглед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весна,орјентисана, диспноична, еукардична, средње ОМГ, нормално пребојене боје коже и видљивих слузница, без знакова за хеморагијски синдром на кожи и без периферне лимфаденопат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ускултаторно, на плућима </a:t>
            </a:r>
            <a:r>
              <a:rPr b="1" lang="sr-RS" sz="2000" spc="-1" strike="noStrike">
                <a:solidFill>
                  <a:srgbClr val="c00000"/>
                </a:solidFill>
                <a:latin typeface="Calibri"/>
              </a:rPr>
              <a:t>дифузно ослабљен дисајни шум, продужен експиријум, чујан нискотонски </a:t>
            </a:r>
            <a:r>
              <a:rPr b="1" i="1" lang="sv-SE" sz="2000" spc="-1" strike="noStrike">
                <a:solidFill>
                  <a:srgbClr val="c00000"/>
                </a:solidFill>
                <a:latin typeface="Calibri"/>
              </a:rPr>
              <a:t>whee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рчана радња ритмична, тонови јасни 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итални знаци: </a:t>
            </a:r>
            <a:r>
              <a:rPr b="1" lang="sr-RS" sz="2000" spc="-1" strike="noStrike">
                <a:solidFill>
                  <a:srgbClr val="c00000"/>
                </a:solidFill>
                <a:latin typeface="Calibri"/>
              </a:rPr>
              <a:t>ТА 130/90</a:t>
            </a:r>
            <a:r>
              <a:rPr b="1" lang="sv-SE" sz="2000" spc="-1" strike="noStrike">
                <a:solidFill>
                  <a:srgbClr val="c00000"/>
                </a:solidFill>
                <a:latin typeface="Calibri"/>
              </a:rPr>
              <a:t>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c00000"/>
                </a:solidFill>
                <a:latin typeface="Calibri"/>
              </a:rPr>
              <a:t>                                   </a:t>
            </a:r>
            <a:r>
              <a:rPr b="1" lang="sr-RS" sz="20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lang="sv-SE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c00000"/>
                </a:solidFill>
                <a:latin typeface="Calibri"/>
              </a:rPr>
              <a:t>СФ 107/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 36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SaO2 95%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на собном ваздух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331640"/>
            <a:ext cx="8229600" cy="54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Гасне анализе без О2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pH 7.45, </a:t>
            </a:r>
            <a:r>
              <a:rPr b="1" lang="sv-SE" sz="2400" spc="-1" strike="noStrike">
                <a:solidFill>
                  <a:srgbClr val="c00000"/>
                </a:solidFill>
                <a:latin typeface="Calibri"/>
              </a:rPr>
              <a:t>pO2 8.4kPa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, pCO2 5.3kPa, HCO3 27.5, SaO2 9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Лабораторијске анализ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 Ле 6.9;Ер 4.29, Хгб 113, Тр 368, Гликемија 6.4, К 3.8, На 139,Уреа 5.9, Креатинин 89, ЦРП 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пирометријско испитивање: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VC     1.53l (62.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EV1   0.68l (33.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EV1/FVC     (44,2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c00000"/>
                </a:solidFill>
                <a:latin typeface="Calibri"/>
              </a:rPr>
              <a:t>Поремећај вентилације мешовитог типа, претежно опструктивног типа, тешког степена, иреверзиби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Arrow Connector 11"/>
          <p:cNvCxnSpPr/>
          <p:nvPr/>
        </p:nvCxnSpPr>
        <p:spPr>
          <a:xfrm>
            <a:off x="5432040" y="4559400"/>
            <a:ext cx="1080" cy="5367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терпретација спирометриј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2205000"/>
          <a:ext cx="8229600" cy="4114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222268"/>
                          </a:solidFill>
                          <a:latin typeface="Calibri"/>
                        </a:rPr>
                        <a:t>Поремећај вентилациј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Спирометр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Узро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Рестрикцијски синдр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FVC&lt; 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FEV1/FVC -</a:t>
                      </a:r>
                      <a:r>
                        <a:rPr b="0" lang="sr-RS" sz="1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норма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buClr>
                          <a:srgbClr val="222268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Дифузне интерстиијумске фибро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222268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Запаљенске инфилтра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222268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асивни тум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222268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Стаза у плућ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222268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атолошки процеси на плеу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222268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олести мишићног, коштаног и нервног сист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buClr>
                          <a:srgbClr val="222268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Опструкцијски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FVC &gt;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FEV1&lt;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FEV1/FVC </a:t>
                      </a:r>
                      <a:r>
                        <a:rPr b="0" lang="sr-RS" sz="1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сниж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222268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ронхијална аст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222268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ХОБ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Oval 6"/>
          <p:cNvSpPr/>
          <p:nvPr/>
        </p:nvSpPr>
        <p:spPr>
          <a:xfrm>
            <a:off x="5916600" y="4087800"/>
            <a:ext cx="2635200" cy="1620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7"/>
          <p:cNvSpPr/>
          <p:nvPr/>
        </p:nvSpPr>
        <p:spPr>
          <a:xfrm>
            <a:off x="6172200" y="5149800"/>
            <a:ext cx="1130400" cy="3492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8"/>
          <p:cNvSpPr/>
          <p:nvPr/>
        </p:nvSpPr>
        <p:spPr>
          <a:xfrm>
            <a:off x="3711600" y="3375000"/>
            <a:ext cx="1654200" cy="4572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9"/>
          <p:cNvSpPr/>
          <p:nvPr/>
        </p:nvSpPr>
        <p:spPr>
          <a:xfrm>
            <a:off x="3240000" y="5338800"/>
            <a:ext cx="2676600" cy="10746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адијуми ХОБ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512640" y="2200320"/>
            <a:ext cx="8118720" cy="4255920"/>
          </a:xfrm>
          <a:prstGeom prst="rect">
            <a:avLst/>
          </a:prstGeom>
          <a:ln w="0">
            <a:noFill/>
          </a:ln>
        </p:spPr>
      </p:pic>
      <p:sp>
        <p:nvSpPr>
          <p:cNvPr id="59" name="Oval 4"/>
          <p:cNvSpPr/>
          <p:nvPr/>
        </p:nvSpPr>
        <p:spPr>
          <a:xfrm>
            <a:off x="2313000" y="4325760"/>
            <a:ext cx="4881600" cy="5382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4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тг плу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ез активних патолошки промена у плућном паренхи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острано наглашен бронховаскуларни црт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еви хемиторакс с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4" descr=""/>
          <p:cNvPicPr/>
          <p:nvPr/>
        </p:nvPicPr>
        <p:blipFill>
          <a:blip r:embed="rId1"/>
          <a:stretch/>
        </p:blipFill>
        <p:spPr>
          <a:xfrm>
            <a:off x="4648320" y="1758960"/>
            <a:ext cx="40384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рапиј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01780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ком хоспитализаци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опструктивна терап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генотерап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сне анализе при отпуст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H 7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.5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CO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9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CO3 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O2 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Zeljko</cp:lastModifiedBy>
  <dcterms:modified xsi:type="dcterms:W3CDTF">2021-02-07T03:17:20Z</dcterms:modified>
  <cp:revision>284</cp:revision>
  <dc:subject/>
  <dc:title>Slide 1</dc:title>
</cp:coreProperties>
</file>